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F9109F-6F6C-40E9-9927-947C2667F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23720" y="1981080"/>
            <a:ext cx="6248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123720" y="4130640"/>
            <a:ext cx="6248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EFC7D1-2BD8-476B-9752-77E7F6442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123720" y="1981080"/>
            <a:ext cx="3049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325920" y="1981080"/>
            <a:ext cx="3049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123720" y="4130640"/>
            <a:ext cx="3049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325920" y="4130640"/>
            <a:ext cx="3049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56C07B-9CDA-45E3-8C02-4F302CEE7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123720" y="1981080"/>
            <a:ext cx="201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236200" y="1981080"/>
            <a:ext cx="201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7349040" y="1981080"/>
            <a:ext cx="201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123720" y="4130640"/>
            <a:ext cx="201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5236200" y="4130640"/>
            <a:ext cx="201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7349040" y="4130640"/>
            <a:ext cx="201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ECA713-DFCA-4510-AF68-21AA38D16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123720" y="1981080"/>
            <a:ext cx="6248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7306E7-6760-440A-B7A7-D816F1D5D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123720" y="1981080"/>
            <a:ext cx="6248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1A06B4-BFCF-46D5-8E02-A1414E3FA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123720" y="1981080"/>
            <a:ext cx="304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325920" y="1981080"/>
            <a:ext cx="304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89726D-A95C-4963-9C0D-C73982E85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0617E1-F1EE-44BC-86A6-802411C77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371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506560-286D-4D84-A1B1-8EFACBD6E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123720" y="1981080"/>
            <a:ext cx="3049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325920" y="1981080"/>
            <a:ext cx="304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123720" y="4130640"/>
            <a:ext cx="3049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B1EC53-F3B6-4C85-A5BF-8182A24DC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123720" y="1981080"/>
            <a:ext cx="304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325920" y="1981080"/>
            <a:ext cx="3049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325920" y="4130640"/>
            <a:ext cx="3049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715737-E95A-4364-B31D-100E6D16F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123720" y="1981080"/>
            <a:ext cx="3049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325920" y="1981080"/>
            <a:ext cx="3049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123720" y="4130640"/>
            <a:ext cx="6248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F38B0B-5511-4F05-A0CA-06A511265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maple_leaf_ir" descr=""/>
          <p:cNvPicPr/>
          <p:nvPr/>
        </p:nvPicPr>
        <p:blipFill>
          <a:blip r:embed="rId2"/>
          <a:stretch/>
        </p:blipFill>
        <p:spPr>
          <a:xfrm>
            <a:off x="0" y="-76320"/>
            <a:ext cx="9448920" cy="692640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1371600" y="1600200"/>
            <a:ext cx="815328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" name="logo-icse2001_small" descr=""/>
          <p:cNvPicPr/>
          <p:nvPr/>
        </p:nvPicPr>
        <p:blipFill>
          <a:blip r:embed="rId3"/>
          <a:stretch/>
        </p:blipFill>
        <p:spPr>
          <a:xfrm>
            <a:off x="533520" y="5715000"/>
            <a:ext cx="1023840" cy="1143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2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AAF15-E82A-445D-96D6-451B6389D21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3"/>
          </p:nvPr>
        </p:nvSpPr>
        <p:spPr>
          <a:xfrm>
            <a:off x="1752120" y="6248160"/>
            <a:ext cx="175284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1371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3123720" y="1981080"/>
            <a:ext cx="6248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Welcome</a:t>
            </a:r>
            <a:endParaRPr b="1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123720" y="1981080"/>
            <a:ext cx="6248520" cy="289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23</a:t>
            </a:r>
            <a:r>
              <a:rPr b="0" lang="en-US" sz="30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International Conference on Software Engineering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-19 May, 2001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stin Harbour Castle Hotel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ronto, Ontario, Canad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Introduction</a:t>
            </a:r>
            <a:endParaRPr b="1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123720" y="1981080"/>
            <a:ext cx="6248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te the purpose of the discus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dentify yoursel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Topics of Discussion</a:t>
            </a:r>
            <a:endParaRPr b="1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123720" y="1981080"/>
            <a:ext cx="6248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te the main ideas you’ll be talking abou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Topic One</a:t>
            </a:r>
            <a:endParaRPr b="1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123720" y="1981080"/>
            <a:ext cx="6248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tails about this top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pporting information and examp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it relates to your audie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Topic Two</a:t>
            </a:r>
            <a:endParaRPr b="1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123720" y="1981080"/>
            <a:ext cx="6248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tails about this top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pporting information and examp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it relates to your audie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Topic Three</a:t>
            </a:r>
            <a:endParaRPr b="1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123720" y="1981080"/>
            <a:ext cx="6248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tails about this top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pporting information and examp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it relates to your audie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Real Life</a:t>
            </a:r>
            <a:endParaRPr b="1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123720" y="1981080"/>
            <a:ext cx="6248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ive an example or real life anecdo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mpathize with the audience’s situation if appropri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What This Means</a:t>
            </a:r>
            <a:endParaRPr b="1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123720" y="1981080"/>
            <a:ext cx="6248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d a strong statement that summarizes how you feel or think about this top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mmarize key points you want your audience to rememb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Next Steps </a:t>
            </a:r>
            <a:endParaRPr b="1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123720" y="1981080"/>
            <a:ext cx="6248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mmarize any actions required of your audie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mmarize any follow up action items required of yo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09T18:34:56Z</dcterms:created>
  <dc:creator>anke</dc:creator>
  <dc:description/>
  <dc:language>en-US</dc:language>
  <cp:lastModifiedBy>Computer Science</cp:lastModifiedBy>
  <dcterms:modified xsi:type="dcterms:W3CDTF">2001-05-07T01:36:21Z</dcterms:modified>
  <cp:revision>12</cp:revision>
  <dc:subject/>
  <dc:title>General</dc:title>
</cp:coreProperties>
</file>